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20.png" ContentType="image/png"/>
  <Override PartName="/ppt/media/image18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9942513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943200" cy="68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563400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3268800" y="510840"/>
            <a:ext cx="340488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22E-A594-42F2-B406-226FB756A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0A01-A2ED-4A0B-8F57-DF057F698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séparation de 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lise et de 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at en 19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4A8-4145-47FA-B20F-ED1CE9A6AF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i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 mon père – de Corneille [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e Ci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720-03D9-435B-A53F-F40C0B783B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f. le rat de la ville et le rat des ch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4FEB-9ED3-45C2-8DF2-48B2F0D88D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el et Pau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eur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 leur mère ! (e.g. p. 139 le fusil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66D-B2FC-4C1D-B829-42611EDF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993-6279-4DF4-9AFA-118897F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42A-9B66-45F2-B6F5-4A2C7700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973-A961-442D-BE04-BC66ACE7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497-689B-4155-A0F2-82CD131E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76A2-D116-4436-9676-AB69BE1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88A9-3A04-42E4-895A-BD9AA76C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0C3-E4C6-4DBC-8761-FD98AB5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D05B-58CC-449E-B9BC-4B6C98D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5757-18A2-4CD5-AFF7-A5FDC26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96D-18F9-4A98-9F22-6B09AA5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F32-72B3-404F-B58B-7674AD3B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68B1-C450-48F3-B458-D8CF527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4DF-0A25-4F58-BCA4-60884AA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F07-A2D2-4F41-AEFD-65E42FC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D49B-6933-4315-99E0-24B9C466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01F2-C74E-4521-AF35-989F43DE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CAB-C7A8-4E22-9B18-E8413152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1F1-243F-4986-AFCC-2C21671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CC7-3039-47FF-A088-87BB71F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4F7-0E83-47A3-8960-BA254A1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775-81CE-4451-A8B9-844D48AF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EBF-FEC0-4754-917B-37CD798A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989-1335-4586-9B1C-77C49D1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998-85B6-405C-B1E0-6820E65E070E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918-6CBA-4E8A-9C40-DA2274852791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Gloire de mon père</a:t>
            </a:r>
            <a:br>
              <a:rPr sz="4400"/>
            </a:b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Marcel Pagnol (1957)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ouvenirs d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nfanc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Tom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le de 1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[…] 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mirais la toute-puissance paternell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maitresse.jpg (24218 octets)"/>
          <p:cNvPicPr/>
          <p:nvPr/>
        </p:nvPicPr>
        <p:blipFill>
          <a:blip r:embed="rId1"/>
          <a:stretch/>
        </p:blipFill>
        <p:spPr>
          <a:xfrm>
            <a:off x="5425920" y="1981080"/>
            <a:ext cx="362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947960" y="1981080"/>
          <a:ext cx="2800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1981080"/>
                    <a:ext cx="280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Souverain Bi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on le grand-père de Mar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science (p. 101) 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i a pourtant ses limites…(p. 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urquoi ce respect de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ducation de la part du grand-père, du père, et de Marce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 Pont du Gar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8" name="ClipArt Placeholder 4" descr=""/>
          <p:cNvPicPr/>
          <p:nvPr/>
        </p:nvPicPr>
        <p:blipFill>
          <a:blip r:embed="rId1"/>
          <a:srcRect l="4049" t="0" r="4049" b="0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.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ration de son grand-p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religion – le curé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146320" y="1981080"/>
          <a:ext cx="240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1981080"/>
                    <a:ext cx="240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nemi sournoi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ennemi no. 1 du père, instituteur de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le Républicaine et laïq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so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cléricalism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loi de la séparation de l’Eglise et l’Etat – 1905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p. 15-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. 2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ïcité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ClipArt Placeholder 4" descr=""/>
          <p:cNvPicPr/>
          <p:nvPr/>
        </p:nvPicPr>
        <p:blipFill>
          <a:blip r:embed="rId1"/>
          <a:srcRect l="-113972" t="0" r="-113972" b="0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…] une trinité atroce, l’Eglise, l’Alcool, et la Royauté.’ (p. 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 aux bartavel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… et Jules, son beau-frère, le grand chass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, le petit chass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6152_"/>
          <p:cNvPicPr/>
          <p:nvPr/>
        </p:nvPicPr>
        <p:blipFill>
          <a:blip r:embed="rId1"/>
          <a:stretch/>
        </p:blipFill>
        <p:spPr>
          <a:xfrm>
            <a:off x="5713560" y="198108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itié – avec Lili des Be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ans la version cinématographique – 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e Château de mè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film2.jpg (9802 octets)"/>
          <p:cNvPicPr/>
          <p:nvPr/>
        </p:nvPicPr>
        <p:blipFill>
          <a:blip r:embed="rId1"/>
          <a:stretch/>
        </p:blipFill>
        <p:spPr>
          <a:xfrm>
            <a:off x="1479600" y="2952720"/>
            <a:ext cx="37368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 dans la montag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le sommet du Taoumé, au-dessus des plateaux encore sombres, était bleu et ros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dans les ravins du Taoumé, il y a le Roi des Gibiers!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3824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3824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le_taoumé.jpg (19319 octets)"/>
          <p:cNvPicPr/>
          <p:nvPr/>
        </p:nvPicPr>
        <p:blipFill>
          <a:blip r:embed="rId1"/>
          <a:stretch/>
        </p:blipFill>
        <p:spPr>
          <a:xfrm>
            <a:off x="5369040" y="3073320"/>
            <a:ext cx="3736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n autre type d’é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omphe/gloire du p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ité- les deux sens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ut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Orgu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lipArt Placeholder 4" descr=""/>
          <p:cNvPicPr/>
          <p:nvPr/>
        </p:nvPicPr>
        <p:blipFill>
          <a:blip r:embed="rId1"/>
          <a:srcRect l="0" t="13299" r="0" b="13299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ortie de l’enfanc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’est-ce que Marcel a appris – de la vie – des adultes – de lui-mê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Cruauté / méchanceté – des enfants ainsi que des adultes – (Paul et 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ctes, pp. 78, 104-09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‘trahison’ / imperfection (des adultes – son père, pp. 123, 164, 1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 Gloire de mon pè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une petite chanson de piété filiale […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– 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un témoignage 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e époque disparue […]’(Avant-propos, p.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 une époque bénie, où les gens se rendaient servi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’ (p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P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père de Marc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Pagno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 cher surhomm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2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1714680" y="6858000"/>
            <a:ext cx="7429320" cy="2209680"/>
            <a:chOff x="1714680" y="6858000"/>
            <a:chExt cx="7429320" cy="2209680"/>
          </a:xfrm>
        </p:grpSpPr>
        <p:sp>
          <p:nvSpPr>
            <p:cNvPr id="123" name="Rectangle 5"/>
            <p:cNvSpPr/>
            <p:nvPr/>
          </p:nvSpPr>
          <p:spPr>
            <a:xfrm>
              <a:off x="1714680" y="685800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1714680" y="6858000"/>
              <a:ext cx="74293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Picture 9" descr="joseph"/>
          <p:cNvPicPr/>
          <p:nvPr/>
        </p:nvPicPr>
        <p:blipFill>
          <a:blip r:embed="rId1"/>
          <a:stretch/>
        </p:blipFill>
        <p:spPr>
          <a:xfrm>
            <a:off x="1995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fant – garçon - homm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…] je devenais un petit homme’- expérience de la solitude, de l’aventure (p. 1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NTIMENTS, EMO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iliation (souvent pour son père) – le contraire de la GLOIRE – Jules et Jose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. 153, 17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te (Jules – p. 1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es, désespoirs – d’un enfant (Marcel et la chasse, p. 1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dence? – devant les ‘dangers’ de la chasse … et de la v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rcel Pagnol adul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ie, di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’avais surpris mon cher surhomme en flagrant délit d’humanité: j’ai senti que je l’en aimais davantage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 2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nym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‘gloire de mon père’ = gloire du f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émici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 26) – anecdo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YL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‘Il [mon père] rencontra […] qui s’appelait Augustine, et il la trouva si jolie qu’il l’épousa aussitôt.’ (pp. 21-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que / héroï-com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fois – ‘le Tueur de Bartavelles’ (p. 2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ique/vocabulaire ric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. 1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te [bathos]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. 18-19. Effet co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YLE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(suite)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d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bolique – exag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nomique – paronomasie (jeu de m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oward, pp. 70-71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– personnification de la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FFETS COMIQU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QUES et VERBAUX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congruï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oqu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Genre littéraire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man ?    (Caldicott, p. 1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biographi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[romancée]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? 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Il est bien difficile de parler de soi.’(Avant-propos, p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fiction ? – ‘sottises’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vant-propos, p.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moires /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venir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vant-propos, p.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Bibliographi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E.J. Caldicott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rcel Pagn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Boston, Twayne, 197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ymond Castans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rcel Pagnol m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racon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Editions de Provence/de la Table ronde, 197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vid Coward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gnol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London, Grant &amp; Cutler, 199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mère - Augusti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âge 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gustine, 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tait le mien, parce que ma mère, 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tait moi, et je pensais, dans mon enfance, que nous étions nés le même jour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5878440" y="1981080"/>
          <a:ext cx="271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8440" y="1981080"/>
                    <a:ext cx="271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c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 et la nature sauvage et ambivalent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57 – Paul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la montagne – le Garl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quoi cet amour de la nature chez Marce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film1.jpg (9004 octets)"/>
          <p:cNvPicPr/>
          <p:nvPr/>
        </p:nvPicPr>
        <p:blipFill>
          <a:blip r:embed="rId1"/>
          <a:stretch/>
        </p:blipFill>
        <p:spPr>
          <a:xfrm>
            <a:off x="5369040" y="2946240"/>
            <a:ext cx="3736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 - Joseph le p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s sont les rapports de Marcel avec son pè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était devenu magnifiq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1" descr="86"/>
          <p:cNvPicPr/>
          <p:nvPr/>
        </p:nvPicPr>
        <p:blipFill>
          <a:blip r:embed="rId1"/>
          <a:stretch/>
        </p:blipFill>
        <p:spPr>
          <a:xfrm>
            <a:off x="1763640" y="2060640"/>
            <a:ext cx="26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M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re Augusti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la mère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s sont les rapports de Marcel avec sa mère ?  Et de Pau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naissance de la petite soeur (p. 4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5407200" y="3087720"/>
          <a:ext cx="373680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7200" y="3087720"/>
                    <a:ext cx="373680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 temps – les â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9, pp. 48-52 – ‘l’enfant de vieux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enfant Marcel et ses parents – ‘[…] je n’imaginais ni leur jeunesse ni leur enfance.’ (p. 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lipArt Placeholder 4" descr=""/>
          <p:cNvPicPr/>
          <p:nvPr/>
        </p:nvPicPr>
        <p:blipFill>
          <a:blip r:embed="rId1"/>
          <a:srcRect l="19884" t="0" r="19884" b="0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 lang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enso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’Oncle Jules, propriétaire du parc – p. 47; ‘mentir’ aux enfants, p. 161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hypocris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du père (pp. 212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comique (physique, verbale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‘Lou Rousti’ (p. 12); la bonne au WC (p. 15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lipArt Placeholder 4" descr=""/>
          <p:cNvPicPr/>
          <p:nvPr/>
        </p:nvPicPr>
        <p:blipFill>
          <a:blip r:embed="rId1"/>
          <a:srcRect l="19761" t="0" r="19761" b="0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ducation de Marc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ux types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ormelle – l’éc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nformelle – la 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lipArt Placeholder 4" descr=""/>
          <p:cNvPicPr/>
          <p:nvPr/>
        </p:nvPicPr>
        <p:blipFill>
          <a:blip r:embed="rId1"/>
          <a:srcRect l="8790" t="-39396" r="-33222" b="-43481"/>
          <a:stretch/>
        </p:blipFill>
        <p:spPr>
          <a:xfrm>
            <a:off x="5705640" y="1155600"/>
            <a:ext cx="373680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473800" y="4508640"/>
            <a:ext cx="31161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4:14:05Z</dcterms:created>
  <dc:creator>Peter Tame</dc:creator>
  <dc:description/>
  <dc:language>en-US</dc:language>
  <cp:lastModifiedBy>Louisa Gibson</cp:lastModifiedBy>
  <cp:lastPrinted>2017-03-08T10:50:44Z</cp:lastPrinted>
  <dcterms:modified xsi:type="dcterms:W3CDTF">2017-03-08T10:51:04Z</dcterms:modified>
  <cp:revision>102</cp:revision>
  <dc:subject/>
  <dc:title>Le Père</dc:title>
</cp:coreProperties>
</file>